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6C13B-A490-4847-AB05-1636D67BA16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11B6A-93C8-4D5D-B353-74A40E5D7F6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4AD2-2562-4751-807D-7BBE79080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235D-398A-4B0B-9095-5DBF6104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B071-23A1-42A5-941E-8CEBBBBC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F087-BBC2-4FB4-BD57-2E30C6DEC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BFB9F-B4A1-4C7F-BB6A-F3B3C6990B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50C57-B08F-496B-A0CD-3D396529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E72F7-EF8E-4E67-A3A1-346098EB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81E58-2E11-4F4E-B95D-6B1C15A4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6B89B-1576-4DF8-86BE-90230204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20C45-5D25-44F8-8BEA-3905D54B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5F2E4-5A30-4658-BEFF-72521834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D849-7D81-4BC2-BA63-989FB1C2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1510C-486A-4D6C-9405-A58FE550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1448D-DAA0-4836-B428-7ABC9112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9558D-7E44-475E-AC24-9B5D14FB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3E98C-0A6D-423D-8956-FD6EF9E8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D6F19-37D6-4371-AA7B-400AD80E7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4C3C-61AB-4AF5-9CDC-7C015C4A49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2EBB-3926-419F-ADCC-29E777C3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B5BB-00C2-48EE-9BEF-0C598323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4BA7-7739-4502-93FE-B09E56EB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9647-03DD-438F-B97C-252FE8EA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F6D2-094D-4B4B-BD7D-29A30151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1D30-2672-4762-B9C6-56B62BB0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0310-0D16-439F-9B8D-A3C32433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7B7B-8BE7-49D9-AEFE-48DD1747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CB02-2D2B-4F6E-AD5A-B344540F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E8BB-207A-4D79-AEE8-1C99E2C2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D86-C163-4507-934D-AFDAA15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C110-B5C0-436D-B609-B162589AA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6488-2943-46B8-BEF5-7C891E2A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7BCF-A752-48F7-86C6-28185B74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18E2-C242-484F-A98D-48038520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3F1A-C9CF-4E5D-A4BF-211EA517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D392-68AD-41A5-8E47-68928B9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6BE9-ECA7-44B6-9879-2057B948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560" y="758520"/>
            <a:ext cx="10055160" cy="35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/01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C318D-00AC-4856-884F-54C3556029D4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560" y="1846080"/>
            <a:ext cx="1005516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5315C84C-4EAB-4403-BB64-9DB1BEECD336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C17660A3-9F95-466A-9D84-63F3ABFDE688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ttuata da ATS a decorrere dal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3120" y="1670040"/>
          <a:ext cx="11183400" cy="4593960"/>
        </p:xfrm>
        <a:graphic>
          <a:graphicData uri="http://schemas.openxmlformats.org/drawingml/2006/table">
            <a:tbl>
              <a:tblPr/>
              <a:tblGrid>
                <a:gridCol w="3016440"/>
                <a:gridCol w="1554480"/>
                <a:gridCol w="1594080"/>
                <a:gridCol w="1716120"/>
                <a:gridCol w="1821240"/>
                <a:gridCol w="1481040"/>
              </a:tblGrid>
              <a:tr h="846000"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  <a:ea typeface="Microsoft YaHe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0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  <a:ea typeface="Microsoft YaHe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  <a:ea typeface="Microsoft YaHe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000" cy="3614040"/>
        </p:xfrm>
        <a:graphic>
          <a:graphicData uri="http://schemas.openxmlformats.org/drawingml/2006/table">
            <a:tbl>
              <a:tblPr/>
              <a:tblGrid>
                <a:gridCol w="2770560"/>
                <a:gridCol w="1763640"/>
                <a:gridCol w="1773720"/>
                <a:gridCol w="1485720"/>
                <a:gridCol w="1495800"/>
                <a:gridCol w="1303560"/>
              </a:tblGrid>
              <a:tr h="528480"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0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84160" y="2170080"/>
            <a:ext cx="9134640" cy="3962520"/>
            <a:chOff x="884160" y="2170080"/>
            <a:chExt cx="9134640" cy="3962520"/>
          </a:xfrm>
        </p:grpSpPr>
        <p:sp>
          <p:nvSpPr>
            <p:cNvPr id="160" name=""/>
            <p:cNvSpPr/>
            <p:nvPr/>
          </p:nvSpPr>
          <p:spPr>
            <a:xfrm>
              <a:off x="7469280" y="4863960"/>
              <a:ext cx="10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88160" y="4863960"/>
              <a:ext cx="1719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790120" y="4863960"/>
              <a:ext cx="11667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2600" y="4826160"/>
              <a:ext cx="1285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76240" y="4772160"/>
              <a:ext cx="171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30840" y="4863960"/>
              <a:ext cx="1317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9600" y="2495520"/>
              <a:ext cx="1715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73360" y="29383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49600" y="3355920"/>
              <a:ext cx="176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73360" y="38941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38160" y="432576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04440" y="241308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77120" y="2413080"/>
              <a:ext cx="132408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45120" y="241308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81680" y="25290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04440" y="2881440"/>
              <a:ext cx="122544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77120" y="2881440"/>
              <a:ext cx="132408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40560" y="2951280"/>
              <a:ext cx="101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3960" y="287820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1680" y="29448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55000" y="2957400"/>
              <a:ext cx="720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04440" y="333360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5120" y="3333600"/>
              <a:ext cx="133056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54680" y="3394080"/>
              <a:ext cx="1765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32960" y="34099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04440" y="380052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77120" y="3800520"/>
              <a:ext cx="132408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45120" y="380052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832960" y="38797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04440" y="426708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45120" y="426708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10000" y="2387520"/>
              <a:ext cx="1317600" cy="53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11760" y="2403360"/>
              <a:ext cx="1224000" cy="4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7600" y="2878200"/>
              <a:ext cx="122220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97400" y="2874960"/>
              <a:ext cx="132552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7760" y="2949480"/>
              <a:ext cx="1144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92360" y="33400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18240" y="380988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92360" y="38098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14880" y="3886200"/>
              <a:ext cx="704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18240" y="427212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2360" y="4272120"/>
              <a:ext cx="13226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9520" y="4341960"/>
              <a:ext cx="113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1800" y="3367080"/>
              <a:ext cx="1317600" cy="41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29040" y="3340080"/>
              <a:ext cx="1222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68840" y="3421080"/>
              <a:ext cx="703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98920" y="4336920"/>
              <a:ext cx="1146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98920" y="3894120"/>
              <a:ext cx="1133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9160" y="5432400"/>
              <a:ext cx="3780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-213480" y="3267720"/>
              <a:ext cx="2803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10000" y="2387520"/>
              <a:ext cx="0" cy="2365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673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6732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732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6732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6732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744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1828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7104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7104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671040" y="38527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67104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67104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3912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3912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3912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3912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1828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1828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1828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744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9744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1176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1828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744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81800" y="4278240"/>
              <a:ext cx="13176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391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10000" y="4756320"/>
              <a:ext cx="6419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dc:language>en-US</dc:language>
  <cp:lastModifiedBy/>
  <dcterms:modified xsi:type="dcterms:W3CDTF">2019-01-30T12:27:24Z</dcterms:modified>
  <cp:revision>139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