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AC15F-FF63-4C99-8241-F1F1D031873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736C-195A-49A7-855B-6041582004F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43F5-1BDF-4F8B-8BF1-23220A303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3F84-8AEC-4909-9D39-E701629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8630-4F6F-42FD-9D56-F0B037A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5364-8D28-4F28-BD70-39C96488A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3A14C-B3C8-4AF0-8788-1EDD10FB3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981BF-D044-4EAC-8650-185C770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8EBC0-1B87-489C-AC6A-9DB9BE7A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27ECB-9D6B-4844-894B-44BDFF0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29C77-3CA4-445D-B657-E8CC0371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C5C39-ABC1-42CB-9F2E-214299BB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8C41-2715-499D-9FBB-C782C78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52A1-7552-4668-BCE9-B29D273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12478-5C36-49C0-9168-E4984949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A70AD-9EAD-40C9-AEBF-E9C69364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E0113-84F5-4DBC-B745-029857E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D489A-124B-4504-BB53-2701C13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13EF-13C5-4C64-81BA-5271A99F2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EB2-96AE-416E-AA2E-43CFC9994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FAA-58DA-49A5-B097-1E2C55C3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8252-D023-4DE6-8279-5D80696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4BC-5027-45E3-83E9-7A953B4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23F-94A0-4B24-8487-CA06949E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AE17-0877-4076-BDF3-7410BC9B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FAC1-9378-4E59-B3FB-35B52DCC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5392-D864-4159-ADDA-1AC96C29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7B44-85A6-4FB0-911B-A8C0E96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75F7-438D-48FF-87DE-3C80A3CA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A168-CF19-40E1-822F-7A4FAD4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F538-AD61-4390-9EC8-3A1169A9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77D-F7B6-4DE5-A332-1C0EB6AE8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F530-1776-4495-AE87-2B4A3DB0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7180-DE61-4BC0-8F80-3D1421C7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8C21-C472-485E-B43B-8FA5B00D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DDDD-8C03-43AC-9FC1-BF08579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B0A7-F259-4978-823F-828F7E1E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58E7-54D4-4472-AC08-30F3006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42AB0-2E04-410F-8C03-73C8C8059D9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703FBA7-1DE1-471B-9CD3-E9A24ADBE1EF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692A0302-5F2E-4D60-8B21-41AA69CAC0C3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400" cy="4593960"/>
        </p:xfrm>
        <a:graphic>
          <a:graphicData uri="http://schemas.openxmlformats.org/drawingml/2006/table">
            <a:tbl>
              <a:tblPr/>
              <a:tblGrid>
                <a:gridCol w="3016440"/>
                <a:gridCol w="1554480"/>
                <a:gridCol w="1594080"/>
                <a:gridCol w="1716120"/>
                <a:gridCol w="1821240"/>
                <a:gridCol w="1481040"/>
              </a:tblGrid>
              <a:tr h="84600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000" cy="3614040"/>
        </p:xfrm>
        <a:graphic>
          <a:graphicData uri="http://schemas.openxmlformats.org/drawingml/2006/table">
            <a:tbl>
              <a:tblPr/>
              <a:tblGrid>
                <a:gridCol w="2770560"/>
                <a:gridCol w="1763640"/>
                <a:gridCol w="1773720"/>
                <a:gridCol w="1485720"/>
                <a:gridCol w="1495800"/>
                <a:gridCol w="1303560"/>
              </a:tblGrid>
              <a:tr h="52848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dc:language>en-US</dc:language>
  <cp:lastModifiedBy/>
  <dcterms:modified xsi:type="dcterms:W3CDTF">2019-01-30T12:27:24Z</dcterms:modified>
  <cp:revision>139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