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37840-89A1-47F0-BFC3-F02985E55D7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14AD3-DE57-4406-AC19-A1A1311BC85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9FD2-1FB2-4774-9313-748244E8F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9652-173D-49E2-AEDA-A5623DD2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EE81-ACC5-4ADE-8CF9-06DF9F1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C069-270A-4CA1-951A-F97290E48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BA031-6849-4E8F-96A8-7B8A05309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06DC1-2CA4-4BB3-8585-0E9A623F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5E293-44C3-42D1-B043-6E7981EB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74D1-0B5A-4909-888F-B664F32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2EC72-0E1B-4DF5-87CE-5E504E5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36C6-637E-4097-ADA7-6DF4F696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B8FC-73BD-44B0-BCE6-1275D10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5368-772A-4164-869F-C231461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2F6D7-492E-4DFA-9BB8-BAC9F41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E1138-D44A-45E4-98A7-C52BF3F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EC09-7B31-4DB8-9575-F88A98E2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A635-A3EF-4810-801A-7010154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D9081-A52E-4BE7-A7F1-846E193485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32E0-A71A-465D-A672-235304B5A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6C18-2A1E-428E-BF32-BBBCBF0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86FD-8208-471B-9271-5DC01CD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630-E339-4E17-B17B-A39802D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3573-0181-449E-B641-0F17064A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22AA-DC6D-4820-BFB6-C7B6D56B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9805-A6E0-49EA-B452-58E1171A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3B98-4D9F-4D99-823E-FC1A883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544-1BAB-40D1-AC48-F68C5141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1395-1EB7-4C44-AA5C-16FB8E8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FF8-079A-4CBB-BD73-770F573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6B30-C5E3-4550-9097-90B8CE5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1C33-B80C-4812-B400-39F1D3AC9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6FAD-EF96-41C4-9D20-F823B6D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6CBF-C1DE-4061-8993-C395CDF1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CEEC-F601-4B10-A53E-C669D66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1995-E1FD-4D38-BFAE-F68F97C6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7B20-571F-481B-8BBB-13825811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F945-0ABE-484D-850C-FE36287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55C6A-3646-440D-8413-4704AC2EE0A0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08373446-46A0-4252-835D-0CE18169485A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9EA2887F-BE1A-4EDC-BD8B-175C2457473E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9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400" cy="4593960"/>
        </p:xfrm>
        <a:graphic>
          <a:graphicData uri="http://schemas.openxmlformats.org/drawingml/2006/table">
            <a:tbl>
              <a:tblPr/>
              <a:tblGrid>
                <a:gridCol w="3016440"/>
                <a:gridCol w="1554480"/>
                <a:gridCol w="1594080"/>
                <a:gridCol w="1716120"/>
                <a:gridCol w="1821240"/>
                <a:gridCol w="1481040"/>
              </a:tblGrid>
              <a:tr h="84600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  <a:ea typeface="Microsoft YaHe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  <a:ea typeface="Microsoft YaHe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000" cy="3614040"/>
        </p:xfrm>
        <a:graphic>
          <a:graphicData uri="http://schemas.openxmlformats.org/drawingml/2006/table">
            <a:tbl>
              <a:tblPr/>
              <a:tblGrid>
                <a:gridCol w="2770560"/>
                <a:gridCol w="1763640"/>
                <a:gridCol w="1773720"/>
                <a:gridCol w="1485720"/>
                <a:gridCol w="1495800"/>
                <a:gridCol w="1303560"/>
              </a:tblGrid>
              <a:tr h="528480"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tIns="9144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Microsoft YaHe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786880" y="271440"/>
            <a:ext cx="289548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dc:language>en-US</dc:language>
  <cp:lastModifiedBy/>
  <dcterms:modified xsi:type="dcterms:W3CDTF">2019-01-30T12:27:24Z</dcterms:modified>
  <cp:revision>139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